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411-153C-43D6-92E6-8D87E087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B4B-8A57-45C6-A58B-9A762499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F88-DA1A-4B0E-A376-0E1EF643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794-56D6-4AC5-90BB-DEB44176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139-1CB2-4119-8427-859C3B78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552-24E0-426A-84B1-FB4F6914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A6E-C770-4814-8750-02B850DD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C1C-0E9D-4F46-AF95-685EEA1E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C84D-98DA-4B02-8EF0-DD6A1D34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9624-F20F-42E3-8883-83C0B79E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67E-968B-4411-8A49-0BE27F14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F14-3C12-437D-BD3F-1F3F73BB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0B2A-276F-43BE-A52A-29361F74B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1F0B-E5DB-4ECF-9C45-FBAD8D6C80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052640"/>
            <a:ext cx="8101080" cy="4895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Эти процессы, с другой стороны, могут находиться не на самом верхнем уровне мод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и этом сущность этих данных и их интерпретация для рассматриваемых процессов совершенно не важ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E93D-B59D-46D9-A505-F61E715A40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828000"/>
            <a:ext cx="8426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ровень приложения (Applicat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интерфейс с прикладными процесс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ровень представления (Presentat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согласование представления (форматов, кодировок) данных прикладных процес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Сеансовый уровень (Sess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установление, поддержка и закрытие логического сеанса связи между удаленными процесс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247400"/>
            <a:ext cx="788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Транспортный уровень (Transport) -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обеспечение безошибочного сквозного обмена потоками данных между процессами во время сеан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Сетевой уровень (Network) -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фрагментация и сборка передаваемых транспортным уровнем данных, маршрутизация и продвижение их по сети от компьютера-отправителя к компьютеру-получате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0E82-ADC8-49F4-8646-AD82632784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341360"/>
            <a:ext cx="78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Канальный уровень (Data Link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 управление каналом передачи данных, управление доступом к среде передачи, передача данных по каналу, обнаружение ошибок в канале и их коррек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Физический уровень (Physical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 физический интерфейс с каналом передачи данных, представление данных в виде физических сигналов и их кодирование (модуляция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CC1C-9B3A-41A3-8144-3981C3D15A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09680"/>
            <a:ext cx="817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. Инкапсуляция и обработка пак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При продвижении пакета данных по уровням сверху вниз каждый новый уровень добавляет к пакету свою служебную информацию в виде заголовка и, возможно, трейлера. Эта операция называется инкапсуляцией данных верхнего уровня в пакете нижнего уровня. Служебная информация предназначается для объекта того же уровня на удаленном компьютере, ее формат и интерпретация определяются протоколом данного уров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E5B0-F34D-4AEA-A2BC-93DF57B4F1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1828080"/>
            <a:ext cx="82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Модель OSI предложена достаточно давно, однако протоколы, на ней основанные, используются редко, во-первых, в силу своей не всегда оправданной сложности, во-вторых , из-за существования хотя и не соответствующих строго модели OSI, но уже хорошо зарекомендовавших себя стеков протоколов (например, TCP/I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6119-DF41-4F7D-BA17-7111997EB4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2000" y="210060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3. Стек протоколов TCP/IP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это собирательное название для набора (стека) сетевых протоколов разных уровней, используемых в Интерн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65E8-544D-4E36-8FAB-0FFC9A6BA8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640" y="873000"/>
            <a:ext cx="788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Особенности TCP/I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- открытые стандарты протоколов, разрабатываемые независимо от программного и аппаратного обеспеч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независимость от физической среды передач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- система уникальной адреса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стандартизованные протоколы высокого уровня для распространенных пользовательских серви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3146-2EA8-4621-A320-A288CFA4D3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268280"/>
            <a:ext cx="8243640" cy="439272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Стек протоколов TCP/IP делится на 4 уров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прикладной (applicatio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транспортный (transpor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межсетевой (interne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уровень доступа к среде передачи (network acces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FD6F-689E-44BC-8D6F-1176BCD400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1640" y="657360"/>
            <a:ext cx="8317080" cy="5435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Уровень 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Приложения, работающие со стеком TCP/IP, могут также выполнять функции уровней представления и частично сеансового модели OSI; например, преобразование данных к внешнему представлению, группировка данных для передачи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Распространенными примерами приложений являются программы telnet, ftp, HTTP-серверы и клиенты (WWW-броузеры), программы работы с электронной почт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Стеки сетевых протоколов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A0AB-6A3A-459D-8B9F-227D2C090F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3280" y="1916280"/>
            <a:ext cx="8209080" cy="3563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Транспортный уров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Протоколы транспортного уровня обеспечивают прозрачную (сквозную) доставку данных (end-to-end delivery service) между двумя прикладными процесс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3416-FC70-4606-BD52-64E485B94B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640" y="1881360"/>
            <a:ext cx="7993080" cy="42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530280" indent="-254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Процесс, получающий или отправляющий данные с помощью транспортного уровня, идентифицируется на этом уровне номером, который называется номером пор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2E9C-6940-4966-A98B-24B1CC4FE0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6360" y="1160640"/>
            <a:ext cx="8064360" cy="4789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На транспортном уровне работают два основных протоко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UDP и TC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TCP (Transmission Control Protocol - протокол контроля передачи) -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надежный протокол с установлением соеди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43A9-A581-467C-8FBC-CF317BC3EA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015920"/>
            <a:ext cx="7777080" cy="486108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4. Протокол U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UDP (User Datagram Protocol, протокол пользовательских дейтаграмм) фактически не выполняет каких-либо особых функций дополнительно к функциям межсетевого уров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FD31-CFC3-47F8-8922-FBCB2DBC02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1015920"/>
            <a:ext cx="8317080" cy="4897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токол UDP использ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либо при пересылке коротких сообщений, когда накладные расходы на установление сеанса и проверку успешной доставки данных оказываются выше расходов на повторную (в случае неудачи) пересылку сообщ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либо в том случае, когда сама организация процесса-приложения обеспечивает установление соединения и проверку доставки пакетов (например, NFS).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31FE-9E25-48A3-AD80-68EA28CA74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744840"/>
            <a:ext cx="81727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ahoma"/>
              </a:rPr>
              <a:t>Значения поле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Source Port - номер порта процесса-отправи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Destination Port - номер порта процесса-получ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Length - длина UDP-пакета вместе с заголовком в октет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Checksum - контрольная сумма. Контрольная сумма вычисляется таким же образом, как и в TCP-заголовке (см. п. 3.2); если UDP-пакет имеет нечетную длину, то при вычислении контрольной суммы к нему добавляется нулевой окт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3ABA-B0A8-4CE3-958B-F4F964F47C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1703160"/>
            <a:ext cx="853272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токол UDP не имеет никаких средств подтверждения безошибочного приема данных или сообщения об ошибке, не обеспечивает приход сообщений в порядке отправки, не производит предварительного установления сеанса связи между прикладными процессами, поэтому он является ненадежным протоколом без установления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40428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Межсетевой уровень и протокол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7040" y="2060280"/>
            <a:ext cx="793116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bbe0e3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IP доставляет блоки данных, называемых дейтаграммами, от одного IP-адреса к другому. IP-адрес является уикальным 32-битным идентификатором компьютера (точнее, его сетевого интерфейс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280" y="1233000"/>
            <a:ext cx="77770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Данные для дейтаграммы передаются IP-модулю транспортным уровнем. IP-модуль предваряет эти данные заголовком, содержащим IP-адреса отправителя и получателя и другую служебную информацию, и сформированная таким образом дейтаграмма передается на уровень доступа к среде передачи (например, одному из физических интерфейсов) для отправки по каналу передачи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956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Модуль IP может отправить компьютеру-источнику этой дейтаграммы уведомление об ошибке; такие уведомления отправляются с помощью протокола ICMP, являющегося неотъемлемой частью модуля.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1280" y="1520640"/>
            <a:ext cx="8121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1) Уровни модели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2) Инкапсуляция и обработка п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3) Стек протоколов TCP/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4) Протокол IP и функции этого проток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5) Протокол U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6) Вопросы для само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7) Рекомендуемая литератур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1.    Опишите функции слоев стека TCP/IP и их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.    Что такое маска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3.    В чем состоит сущность процесса IP-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4.    Каковы задачи протокола IP? TCP? В чем их отличие друг от дру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5.    Каковы недостатки протокола I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6.    Каковы недостатки протокола TC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7.    Как приложение взаимодействует со стеком TCP/IP?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oyle J. "Routing TCP/IP. Volume I"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5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905D-870E-4D75-8F67-106ACB6437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6360" y="1125360"/>
            <a:ext cx="7993080" cy="5004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1.1  Семиуровневая модель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ель OSI (Open System Interconnect Reference Model, Эталонная модель взаимодействия открытых систем) представляет собой универсальный стандарт на взаимодействие двух систем (компьютеров) через вычислительную се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 Уровни модели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D7DF-3B0F-4AAA-A296-6C48D0B162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413000"/>
            <a:ext cx="8064360" cy="4572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аждый уровень определяется сервисом, который он предоставляет вышестоящему уровню, и протоколом - набором правил и форматов данных для взаимодействия между собой объектов одного уровня, работающих на разных компьютерах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0567-0360-4367-99B8-2AA2E61A35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484280"/>
            <a:ext cx="7921440" cy="3997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Модель построена так, что объекты одного уровня двух взаимодействующих компьютеров сообщаются непосредственно друг с другом с помощью соответствующих протоколов, не зная, какие уровни лежат под ними и какие функции они выполняю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F5B2-D36F-46F3-9453-8BEA9581EA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9280" y="1628640"/>
            <a:ext cx="784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Задача объектов - предоставить через стандартизованный интерфейс определенный сервис вышестоящему уровню, воспользовавшись, если нужно, сервисом, который предоставляет данному объекту нижележащий уровень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1A09-944F-4C29-8998-8C4B234449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413000"/>
            <a:ext cx="820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640" y="1448280"/>
            <a:ext cx="788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Через стандартизованный интерфейс процесс-отправитель передает данные нижнему уровню, который предоставляет процессу сервис по пересылке данных, а процесс-получатель через такой же стандартизованный интерфейс получает эти данные от нижнего уров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323C-1944-4F69-B7A3-B622BF2ABF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736640"/>
            <a:ext cx="79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При этом ни один из процессов не знает и не имеет необходимости знать, как именно осуществляет передачу данных протокол нижнего уровня, сколько еще уровней находится под ним, какова физическая среда передачи данных и каким путем они движу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Maxim</cp:lastModifiedBy>
  <dcterms:modified xsi:type="dcterms:W3CDTF">2009-01-12T10:26:52Z</dcterms:modified>
  <cp:revision>135</cp:revision>
  <dc:subject/>
  <dc:title>Lecture Template </dc:title>
</cp:coreProperties>
</file>